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8.png" ContentType="image/png"/>
  <Override PartName="/ppt/media/image21.pct" ContentType="image/x-pict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097-665E-42C5-B6A1-38C2DD0BED23}" type="datetime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683-EC36-4B74-94BE-CAC6E36D0D45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ensión tecnología-pedagogía desapar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97B-9050-47BA-AF2F-8B426C1A2B16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D5A3-D9C5-4241-B05E-75D3D9A40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ADF7-D5C4-4EC2-8789-BD97FB7B6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F642-BA0C-4BBB-9500-024415F70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848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1732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848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FE39-0BD1-4F7C-8D31-60A86A9E5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3800" y="180720"/>
            <a:ext cx="72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37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CFDC-5DEB-4D40-A357-9FF62CA38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5848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1732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5848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1A8A-3D89-4CA3-89FD-9570B93151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1F3C-7D46-4F70-B03B-DEB650FEC2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2BA3-B595-4DE4-B9EC-97137AF8A5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81E0-D0FC-47BF-865C-088B701054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6DE8-3661-4934-9685-16398FA01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0133-4217-42F8-A4B8-3DC36DBE54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23800" y="180720"/>
            <a:ext cx="72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37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8A59-316E-4276-9B7E-FC5D35F1FB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19DD-6B9F-4BFC-93E4-F3D0378F63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9606-D773-40E7-8A65-23DABAC44B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FA95-C517-4498-9D32-AE64026908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CD7F-1E13-4C10-A3F5-8F3874388E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0A8A-5A99-47BA-AFEB-E4C260FC08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5848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41732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5848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324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B4A8-3EAD-4364-8AF7-36AAF114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FFBC-B444-42F3-A972-6DA276927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5EE3-16B2-4C17-8FFB-957DADF19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23800" y="180720"/>
            <a:ext cx="72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37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BD38-4122-43CE-8E51-F7545BF1B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9E9A-B296-4F95-9694-1F57E24D1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680" y="413064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B79D-B3CB-476E-B9FE-4A307E4A0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981080"/>
            <a:ext cx="352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17320" y="4130640"/>
            <a:ext cx="721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D5AD-85A1-4E92-A65A-B3A84F4BE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2" marL="1143000" indent="-2300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3" marL="156204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4" marL="198108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5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6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13200" y="6450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8A1-6AC9-47D8-95BF-AAC62D9CAB14}" type="slidenum">
              <a:rPr b="0" lang="es-CO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" descr="E:\Users\Pilar Mancera\Unad Pilar\C. LOGOS\logo unad normal.png"/>
          <p:cNvPicPr/>
          <p:nvPr/>
        </p:nvPicPr>
        <p:blipFill>
          <a:blip r:embed="rId2"/>
          <a:stretch/>
        </p:blipFill>
        <p:spPr>
          <a:xfrm>
            <a:off x="7461360" y="-6480"/>
            <a:ext cx="161604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0" descr="Picture 2"/>
          <p:cNvPicPr/>
          <p:nvPr/>
        </p:nvPicPr>
        <p:blipFill>
          <a:blip r:embed="rId3"/>
          <a:stretch/>
        </p:blipFill>
        <p:spPr>
          <a:xfrm>
            <a:off x="1266840" y="228600"/>
            <a:ext cx="2254320" cy="1287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2" marL="1143000" indent="-2300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3" marL="156204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4" marL="198108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5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6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E:\Users\Pilar Mancera\Unad Pilar\C. LOGOS\logo unad normal.png"/>
          <p:cNvPicPr/>
          <p:nvPr/>
        </p:nvPicPr>
        <p:blipFill>
          <a:blip r:embed="rId2"/>
          <a:stretch/>
        </p:blipFill>
        <p:spPr>
          <a:xfrm>
            <a:off x="7461360" y="-6480"/>
            <a:ext cx="1616040" cy="100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Users\Pilar Mancera\Unad Pilar\C. LOGOS\logo unad normal.png"/>
          <p:cNvPicPr/>
          <p:nvPr/>
        </p:nvPicPr>
        <p:blipFill>
          <a:blip r:embed="rId3"/>
          <a:stretch/>
        </p:blipFill>
        <p:spPr>
          <a:xfrm>
            <a:off x="7693200" y="-6480"/>
            <a:ext cx="1384200" cy="86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17320" y="1981080"/>
            <a:ext cx="721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2" marL="1143000" indent="-23004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3" marL="156204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4" marL="1981080" indent="-228600">
              <a:lnSpc>
                <a:spcPct val="115000"/>
              </a:lnSpc>
              <a:spcAft>
                <a:spcPts val="374"/>
              </a:spcAft>
              <a:buClr>
                <a:srgbClr val="757561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5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lvl="6" marL="1981080" indent="-228600">
              <a:lnSpc>
                <a:spcPct val="115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75756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513200" y="6450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D718-2028-40E7-8D81-420A6A55748B}" type="slidenum">
              <a:rPr b="0" lang="es-CO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mailto:elizabeth.vidal@unad.edu.c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6500" spc="-1" strike="noStrike">
                <a:solidFill>
                  <a:srgbClr val="0d0d0d"/>
                </a:solidFill>
                <a:latin typeface="Arial"/>
              </a:rPr>
              <a:t>EaD </a:t>
            </a:r>
            <a:r>
              <a:rPr b="1" lang="es-CO" sz="5900" spc="-1" strike="noStrike">
                <a:solidFill>
                  <a:srgbClr val="0d0d0d"/>
                </a:solidFill>
                <a:latin typeface="Arial"/>
              </a:rPr>
              <a:t> </a:t>
            </a:r>
            <a:br>
              <a:rPr sz="5900"/>
            </a:br>
            <a:r>
              <a:rPr b="1" lang="es-CO" sz="3600" spc="-1" strike="noStrike">
                <a:solidFill>
                  <a:srgbClr val="0d0d0d"/>
                </a:solidFill>
                <a:latin typeface="Arial"/>
              </a:rPr>
              <a:t>UNA VISIÓN TÉCNICA, PEDAGÓGICA Y ESTRATÉGICA </a:t>
            </a:r>
            <a:br>
              <a:rPr sz="3600"/>
            </a:br>
            <a:r>
              <a:rPr b="1" i="1" lang="es-CO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4366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000" spc="-1" strike="noStrike">
                <a:solidFill>
                  <a:srgbClr val="757561"/>
                </a:solidFill>
                <a:latin typeface="Arial"/>
              </a:rPr>
              <a:t>ELIZABETH VIDAL ARIZABALETA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000" spc="-1" strike="noStrike">
                <a:solidFill>
                  <a:srgbClr val="757561"/>
                </a:solidFill>
                <a:latin typeface="Arial"/>
              </a:rPr>
              <a:t>Vicerrectora Académica y de Investigación-UNAD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374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000" spc="-1" strike="noStrike">
                <a:solidFill>
                  <a:srgbClr val="757561"/>
                </a:solidFill>
                <a:latin typeface="Arial"/>
              </a:rPr>
              <a:t>Bogotá, D.C., 10 de Noviembre de 2011</a:t>
            </a:r>
            <a:endParaRPr b="0" lang="en-US" sz="2000" spc="-1" strike="noStrike">
              <a:solidFill>
                <a:srgbClr val="757561"/>
              </a:solidFill>
              <a:latin typeface="Arial"/>
            </a:endParaRPr>
          </a:p>
        </p:txBody>
      </p:sp>
      <p:sp>
        <p:nvSpPr>
          <p:cNvPr id="129" name="Conector recto 7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b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8"/>
          <p:cNvSpPr/>
          <p:nvPr/>
        </p:nvSpPr>
        <p:spPr>
          <a:xfrm>
            <a:off x="0" y="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b416"/>
                </a:solidFill>
                <a:latin typeface="Arial"/>
              </a:rPr>
              <a:t>PROSPECTA COLOMBIA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b416"/>
                </a:solidFill>
                <a:latin typeface="Arial"/>
              </a:rPr>
              <a:t>IV CONGRESO INTERNACIONAL DE PROSPECTIVA ESTRATÉGICA Y ESTUDIOS DE FUT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8000" y="990720"/>
            <a:ext cx="8928000" cy="5333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200" spc="-1" strike="noStrike">
                <a:solidFill>
                  <a:srgbClr val="ffb416"/>
                </a:solidFill>
                <a:latin typeface="Arial"/>
              </a:rPr>
              <a:t>Características del Modelo de Gestión Digital en 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ángulo 5"/>
          <p:cNvSpPr/>
          <p:nvPr/>
        </p:nvSpPr>
        <p:spPr>
          <a:xfrm>
            <a:off x="4762440" y="64882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base en ASFOURA, E., et al. (20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ángulo 4"/>
          <p:cNvSpPr/>
          <p:nvPr/>
        </p:nvSpPr>
        <p:spPr>
          <a:xfrm rot="19335000">
            <a:off x="1244160" y="2587320"/>
            <a:ext cx="7440840" cy="2130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AS MEGAUNIVERSIDADES OPERAN DENTRO DE DIFERENTES REDES Y CULTURAS, MOSTRANDO COMBINACIONES DE BUROCRACIAS COLEGIADAS, REDES Y ELEMENTOS CORPORATIVOS O DE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 rot="16200000">
            <a:off x="-3100680" y="2872440"/>
            <a:ext cx="65959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ia una propuesta de Modelo de e-gest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adroTexto 6"/>
          <p:cNvSpPr/>
          <p:nvPr/>
        </p:nvSpPr>
        <p:spPr>
          <a:xfrm>
            <a:off x="7696080" y="541008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DKINS, S. (2005); MCKNIGHT, S. (2006); LINEROS, VIDAL, 2011, L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01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"/>
          <p:cNvPicPr/>
          <p:nvPr/>
        </p:nvPicPr>
        <p:blipFill>
          <a:blip r:embed="rId1"/>
          <a:stretch/>
        </p:blipFill>
        <p:spPr>
          <a:xfrm>
            <a:off x="546120" y="0"/>
            <a:ext cx="72262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Elipse 8"/>
          <p:cNvSpPr/>
          <p:nvPr/>
        </p:nvSpPr>
        <p:spPr>
          <a:xfrm>
            <a:off x="0" y="228600"/>
            <a:ext cx="80010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uadroTexto 6"/>
          <p:cNvSpPr/>
          <p:nvPr/>
        </p:nvSpPr>
        <p:spPr>
          <a:xfrm>
            <a:off x="5110200" y="5181480"/>
            <a:ext cx="9032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6600"/>
                </a:solidFill>
                <a:latin typeface="Arial"/>
              </a:rPr>
              <a:t>EGRESA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28680"/>
            <a:ext cx="708336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e4159"/>
                </a:solidFill>
                <a:latin typeface="Arial"/>
              </a:rPr>
              <a:t>¡¡GRACIAS POR SU ATENCIÓN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00.png"/>
          <p:cNvPicPr/>
          <p:nvPr/>
        </p:nvPicPr>
        <p:blipFill>
          <a:blip r:embed="rId1"/>
          <a:stretch/>
        </p:blipFill>
        <p:spPr>
          <a:xfrm>
            <a:off x="1336680" y="3429000"/>
            <a:ext cx="6853320" cy="15159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uppe 712"/>
          <p:cNvGrpSpPr/>
          <p:nvPr/>
        </p:nvGrpSpPr>
        <p:grpSpPr>
          <a:xfrm>
            <a:off x="3772080" y="1695600"/>
            <a:ext cx="2076120" cy="2571480"/>
            <a:chOff x="3772080" y="1695600"/>
            <a:chExt cx="2076120" cy="2571480"/>
          </a:xfrm>
        </p:grpSpPr>
        <p:sp>
          <p:nvSpPr>
            <p:cNvPr id="219" name="Freeform 71"/>
            <p:cNvSpPr/>
            <p:nvPr/>
          </p:nvSpPr>
          <p:spPr>
            <a:xfrm>
              <a:off x="5089320" y="2011680"/>
              <a:ext cx="758880" cy="223020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2"/>
            <p:cNvSpPr/>
            <p:nvPr/>
          </p:nvSpPr>
          <p:spPr>
            <a:xfrm>
              <a:off x="5089320" y="2011680"/>
              <a:ext cx="758880" cy="22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3"/>
            <p:cNvSpPr/>
            <p:nvPr/>
          </p:nvSpPr>
          <p:spPr>
            <a:xfrm>
              <a:off x="5315400" y="2335320"/>
              <a:ext cx="1288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4"/>
            <p:cNvSpPr/>
            <p:nvPr/>
          </p:nvSpPr>
          <p:spPr>
            <a:xfrm>
              <a:off x="5315400" y="2335320"/>
              <a:ext cx="128880" cy="37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5"/>
            <p:cNvSpPr/>
            <p:nvPr/>
          </p:nvSpPr>
          <p:spPr>
            <a:xfrm>
              <a:off x="5176800" y="1695600"/>
              <a:ext cx="380880" cy="4298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6"/>
            <p:cNvSpPr/>
            <p:nvPr/>
          </p:nvSpPr>
          <p:spPr>
            <a:xfrm>
              <a:off x="5176800" y="1695600"/>
              <a:ext cx="380880" cy="429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4837680" y="2540160"/>
              <a:ext cx="390600" cy="38412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8"/>
            <p:cNvSpPr/>
            <p:nvPr/>
          </p:nvSpPr>
          <p:spPr>
            <a:xfrm>
              <a:off x="4837680" y="2540160"/>
              <a:ext cx="390600" cy="384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9"/>
            <p:cNvSpPr/>
            <p:nvPr/>
          </p:nvSpPr>
          <p:spPr>
            <a:xfrm>
              <a:off x="3784680" y="2133000"/>
              <a:ext cx="513360" cy="95076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>
              <a:off x="3784680" y="2133000"/>
              <a:ext cx="513360" cy="95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>
              <a:off x="4204800" y="2641320"/>
              <a:ext cx="519840" cy="3056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>
              <a:off x="4204800" y="2641320"/>
              <a:ext cx="519840" cy="30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3"/>
            <p:cNvSpPr/>
            <p:nvPr/>
          </p:nvSpPr>
          <p:spPr>
            <a:xfrm>
              <a:off x="4698720" y="2782800"/>
              <a:ext cx="193680" cy="1742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4"/>
            <p:cNvSpPr/>
            <p:nvPr/>
          </p:nvSpPr>
          <p:spPr>
            <a:xfrm>
              <a:off x="4698720" y="2782800"/>
              <a:ext cx="193680" cy="17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5"/>
            <p:cNvSpPr/>
            <p:nvPr/>
          </p:nvSpPr>
          <p:spPr>
            <a:xfrm>
              <a:off x="3772080" y="1872360"/>
              <a:ext cx="493920" cy="47268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6"/>
            <p:cNvSpPr/>
            <p:nvPr/>
          </p:nvSpPr>
          <p:spPr>
            <a:xfrm>
              <a:off x="3772080" y="1872360"/>
              <a:ext cx="493920" cy="472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7"/>
            <p:cNvSpPr/>
            <p:nvPr/>
          </p:nvSpPr>
          <p:spPr>
            <a:xfrm>
              <a:off x="5221800" y="2011680"/>
              <a:ext cx="338760" cy="44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"/>
            <p:cNvSpPr/>
            <p:nvPr/>
          </p:nvSpPr>
          <p:spPr>
            <a:xfrm>
              <a:off x="5221800" y="2011680"/>
              <a:ext cx="338760" cy="44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9"/>
            <p:cNvSpPr/>
            <p:nvPr/>
          </p:nvSpPr>
          <p:spPr>
            <a:xfrm>
              <a:off x="5208840" y="2087280"/>
              <a:ext cx="200160" cy="42228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0"/>
            <p:cNvSpPr/>
            <p:nvPr/>
          </p:nvSpPr>
          <p:spPr>
            <a:xfrm>
              <a:off x="5208840" y="2087280"/>
              <a:ext cx="200160" cy="42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1"/>
            <p:cNvSpPr/>
            <p:nvPr/>
          </p:nvSpPr>
          <p:spPr>
            <a:xfrm>
              <a:off x="3826800" y="2937240"/>
              <a:ext cx="403560" cy="82692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2"/>
            <p:cNvSpPr/>
            <p:nvPr/>
          </p:nvSpPr>
          <p:spPr>
            <a:xfrm>
              <a:off x="3826800" y="2937240"/>
              <a:ext cx="403560" cy="826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3"/>
            <p:cNvSpPr/>
            <p:nvPr/>
          </p:nvSpPr>
          <p:spPr>
            <a:xfrm>
              <a:off x="3972240" y="3738600"/>
              <a:ext cx="132120" cy="528480"/>
            </a:xfrm>
            <a:prstGeom prst="pi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4"/>
            <p:cNvSpPr/>
            <p:nvPr/>
          </p:nvSpPr>
          <p:spPr>
            <a:xfrm>
              <a:off x="3972240" y="3738600"/>
              <a:ext cx="132120" cy="528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5"/>
            <p:cNvSpPr/>
            <p:nvPr/>
          </p:nvSpPr>
          <p:spPr>
            <a:xfrm>
              <a:off x="4033440" y="3741120"/>
              <a:ext cx="200160" cy="427320"/>
            </a:xfrm>
            <a:prstGeom prst="pi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4033440" y="3741120"/>
              <a:ext cx="20016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itle 1"/>
          <p:cNvSpPr/>
          <p:nvPr/>
        </p:nvSpPr>
        <p:spPr>
          <a:xfrm>
            <a:off x="1066680" y="4876920"/>
            <a:ext cx="7083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 u="sng">
                <a:solidFill>
                  <a:srgbClr val="ed7307"/>
                </a:solidFill>
                <a:uFillTx/>
                <a:latin typeface="Arial"/>
                <a:hlinkClick r:id="rId2"/>
              </a:rPr>
              <a:t>elizabeth.vidal@unad.edu.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rc 13"/>
          <p:cNvSpPr/>
          <p:nvPr/>
        </p:nvSpPr>
        <p:spPr>
          <a:xfrm>
            <a:off x="-3429000" y="0"/>
            <a:ext cx="6858000" cy="6858000"/>
          </a:xfrm>
          <a:prstGeom prst="pie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 flipH="1">
            <a:off x="3121200" y="122868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sión Té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 flipH="1">
            <a:off x="3626640" y="230364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sión Pedag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 flipH="1">
            <a:off x="3626640" y="364320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s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 flipH="1">
            <a:off x="3193920" y="4843440"/>
            <a:ext cx="43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val 14"/>
          <p:cNvGrpSpPr/>
          <p:nvPr/>
        </p:nvGrpSpPr>
        <p:grpSpPr>
          <a:xfrm>
            <a:off x="2597040" y="1255680"/>
            <a:ext cx="554040" cy="560520"/>
            <a:chOff x="2597040" y="1255680"/>
            <a:chExt cx="554040" cy="560520"/>
          </a:xfrm>
        </p:grpSpPr>
        <p:pic>
          <p:nvPicPr>
            <p:cNvPr id="137" name="Oval 14" descr=""/>
            <p:cNvPicPr/>
            <p:nvPr/>
          </p:nvPicPr>
          <p:blipFill>
            <a:blip r:embed="rId1"/>
            <a:stretch/>
          </p:blipFill>
          <p:spPr>
            <a:xfrm>
              <a:off x="2597040" y="1255680"/>
              <a:ext cx="554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66960" y="141588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Oval 15"/>
          <p:cNvGrpSpPr/>
          <p:nvPr/>
        </p:nvGrpSpPr>
        <p:grpSpPr>
          <a:xfrm>
            <a:off x="3097080" y="2523960"/>
            <a:ext cx="554040" cy="560520"/>
            <a:chOff x="3097080" y="2523960"/>
            <a:chExt cx="554040" cy="560520"/>
          </a:xfrm>
        </p:grpSpPr>
        <p:pic>
          <p:nvPicPr>
            <p:cNvPr id="140" name="Oval 15" descr=""/>
            <p:cNvPicPr/>
            <p:nvPr/>
          </p:nvPicPr>
          <p:blipFill>
            <a:blip r:embed="rId2"/>
            <a:stretch/>
          </p:blipFill>
          <p:spPr>
            <a:xfrm>
              <a:off x="3097080" y="2523960"/>
              <a:ext cx="554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265560" y="268452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Oval 16"/>
          <p:cNvGrpSpPr/>
          <p:nvPr/>
        </p:nvGrpSpPr>
        <p:grpSpPr>
          <a:xfrm>
            <a:off x="3097080" y="3790800"/>
            <a:ext cx="554040" cy="561960"/>
            <a:chOff x="3097080" y="3790800"/>
            <a:chExt cx="554040" cy="561960"/>
          </a:xfrm>
        </p:grpSpPr>
        <p:pic>
          <p:nvPicPr>
            <p:cNvPr id="143" name="Oval 16" descr=""/>
            <p:cNvPicPr/>
            <p:nvPr/>
          </p:nvPicPr>
          <p:blipFill>
            <a:blip r:embed="rId3"/>
            <a:stretch/>
          </p:blipFill>
          <p:spPr>
            <a:xfrm>
              <a:off x="3097080" y="3790800"/>
              <a:ext cx="5540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267000" y="395280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Oval 17"/>
          <p:cNvGrpSpPr/>
          <p:nvPr/>
        </p:nvGrpSpPr>
        <p:grpSpPr>
          <a:xfrm>
            <a:off x="2610000" y="5059440"/>
            <a:ext cx="554040" cy="560160"/>
            <a:chOff x="2610000" y="5059440"/>
            <a:chExt cx="554040" cy="560160"/>
          </a:xfrm>
        </p:grpSpPr>
        <p:pic>
          <p:nvPicPr>
            <p:cNvPr id="146" name="Oval 17" descr=""/>
            <p:cNvPicPr/>
            <p:nvPr/>
          </p:nvPicPr>
          <p:blipFill>
            <a:blip r:embed="rId4"/>
            <a:stretch/>
          </p:blipFill>
          <p:spPr>
            <a:xfrm>
              <a:off x="2610000" y="5059440"/>
              <a:ext cx="55404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560" y="522144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rc 18"/>
          <p:cNvGrpSpPr/>
          <p:nvPr/>
        </p:nvGrpSpPr>
        <p:grpSpPr>
          <a:xfrm>
            <a:off x="-6480" y="1901880"/>
            <a:ext cx="1536840" cy="3054240"/>
            <a:chOff x="-6480" y="1901880"/>
            <a:chExt cx="1536840" cy="3054240"/>
          </a:xfrm>
        </p:grpSpPr>
        <p:pic>
          <p:nvPicPr>
            <p:cNvPr id="149" name="Arc 18" descr=""/>
            <p:cNvPicPr/>
            <p:nvPr/>
          </p:nvPicPr>
          <p:blipFill>
            <a:blip r:embed="rId5"/>
            <a:stretch/>
          </p:blipFill>
          <p:spPr>
            <a:xfrm>
              <a:off x="-6480" y="1901880"/>
              <a:ext cx="1536840" cy="30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1905120"/>
              <a:ext cx="152388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-120960" y="306720"/>
            <a:ext cx="228960" cy="6245280"/>
            <a:chOff x="-120960" y="306720"/>
            <a:chExt cx="228960" cy="6245280"/>
          </a:xfrm>
        </p:grpSpPr>
        <p:grpSp>
          <p:nvGrpSpPr>
            <p:cNvPr id="152" name="Rounded Rectangle 12"/>
            <p:cNvGrpSpPr/>
            <p:nvPr/>
          </p:nvGrpSpPr>
          <p:grpSpPr>
            <a:xfrm>
              <a:off x="-120600" y="3232800"/>
              <a:ext cx="228600" cy="3319200"/>
              <a:chOff x="-120600" y="3232800"/>
              <a:chExt cx="228600" cy="3319200"/>
            </a:xfrm>
          </p:grpSpPr>
          <p:pic>
            <p:nvPicPr>
              <p:cNvPr id="153" name="Rounded Rectangl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-120600" y="3232800"/>
                <a:ext cx="228600" cy="33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 rot="10800000">
                <a:off x="-46800" y="3365280"/>
                <a:ext cx="87120" cy="30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Rounded Rectangle 23"/>
            <p:cNvGrpSpPr/>
            <p:nvPr/>
          </p:nvGrpSpPr>
          <p:grpSpPr>
            <a:xfrm>
              <a:off x="-120960" y="306720"/>
              <a:ext cx="228600" cy="3313080"/>
              <a:chOff x="-120960" y="306720"/>
              <a:chExt cx="228600" cy="3313080"/>
            </a:xfrm>
          </p:grpSpPr>
          <p:pic>
            <p:nvPicPr>
              <p:cNvPr id="156" name="Rounded Rectangl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120960" y="306720"/>
                <a:ext cx="22860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10800000">
                <a:off x="-46800" y="435960"/>
                <a:ext cx="87120" cy="30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380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Marcador de pie de página 19"/>
          <p:cNvSpPr/>
          <p:nvPr/>
        </p:nvSpPr>
        <p:spPr>
          <a:xfrm>
            <a:off x="5894280" y="6337440"/>
            <a:ext cx="3249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Iizabeth.vidal@unad.edu.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17"/>
          <p:cNvGrpSpPr/>
          <p:nvPr/>
        </p:nvGrpSpPr>
        <p:grpSpPr>
          <a:xfrm>
            <a:off x="1700280" y="5924520"/>
            <a:ext cx="561960" cy="561960"/>
            <a:chOff x="1700280" y="5924520"/>
            <a:chExt cx="561960" cy="561960"/>
          </a:xfrm>
        </p:grpSpPr>
        <p:pic>
          <p:nvPicPr>
            <p:cNvPr id="161" name="Oval 17" descr=""/>
            <p:cNvPicPr/>
            <p:nvPr/>
          </p:nvPicPr>
          <p:blipFill>
            <a:blip r:embed="rId8"/>
            <a:stretch/>
          </p:blipFill>
          <p:spPr>
            <a:xfrm>
              <a:off x="1700280" y="592452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873080" y="608652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2" descr="MC900439308"/>
          <p:cNvPicPr/>
          <p:nvPr/>
        </p:nvPicPr>
        <p:blipFill>
          <a:blip r:embed="rId9"/>
          <a:stretch/>
        </p:blipFill>
        <p:spPr>
          <a:xfrm>
            <a:off x="-1335240" y="1749600"/>
            <a:ext cx="4194360" cy="39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80000">
                                      <p:cBhvr>
                                        <p:cTn id="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2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575-1AFF-4D76-9D64-4CAA5E69294C}" type="slidenum"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1720" y="4726080"/>
            <a:ext cx="8078760" cy="201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emantic w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mbraces four stages of internet grow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Web 1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as about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onnecting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Web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out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onnecting peo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Web 3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s starting now… and it is about …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onnecting knowle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Web 4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come later … and it is about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onnecting intellig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 ubiquitous web where both people and things can reason and communicate together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“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Semantic Wave 200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,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Mills Dav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5" descr=""/>
          <p:cNvPicPr/>
          <p:nvPr/>
        </p:nvPicPr>
        <p:blipFill>
          <a:blip r:embed="rId1"/>
          <a:stretch/>
        </p:blipFill>
        <p:spPr>
          <a:xfrm>
            <a:off x="182520" y="30240"/>
            <a:ext cx="7686720" cy="1298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7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82240" cy="3429000"/>
          </a:xfrm>
          <a:prstGeom prst="rect">
            <a:avLst/>
          </a:prstGeom>
          <a:ln w="0">
            <a:noFill/>
          </a:ln>
        </p:spPr>
      </p:pic>
      <p:cxnSp>
        <p:nvCxnSpPr>
          <p:cNvPr id="168" name="Conector curvado 7"/>
          <p:cNvCxnSpPr/>
          <p:nvPr/>
        </p:nvCxnSpPr>
        <p:spPr>
          <a:xfrm flipV="1">
            <a:off x="4343400" y="4190760"/>
            <a:ext cx="2820240" cy="305280"/>
          </a:xfrm>
          <a:prstGeom prst="curvedConnector5">
            <a:avLst>
              <a:gd name="adj1" fmla="val 49993"/>
              <a:gd name="adj2" fmla="val 49940"/>
              <a:gd name="adj3" fmla="val 49993"/>
            </a:avLst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69" name="Conector curvado 10"/>
          <p:cNvCxnSpPr/>
          <p:nvPr/>
        </p:nvCxnSpPr>
        <p:spPr>
          <a:xfrm rot="10800000">
            <a:off x="2208960" y="1675800"/>
            <a:ext cx="4953960" cy="251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70" name="Conector curvado 11"/>
          <p:cNvCxnSpPr/>
          <p:nvPr/>
        </p:nvCxnSpPr>
        <p:spPr>
          <a:xfrm flipV="1">
            <a:off x="1523880" y="1065960"/>
            <a:ext cx="4191840" cy="38196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71" name="Arco 24"/>
          <p:cNvSpPr/>
          <p:nvPr/>
        </p:nvSpPr>
        <p:spPr>
          <a:xfrm rot="9346800">
            <a:off x="5605200" y="69480"/>
            <a:ext cx="3055680" cy="914400"/>
          </a:xfrm>
          <a:prstGeom prst="pie">
            <a:avLst/>
          </a:pr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Texto 25"/>
          <p:cNvSpPr/>
          <p:nvPr/>
        </p:nvSpPr>
        <p:spPr>
          <a:xfrm>
            <a:off x="7090560" y="45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en 1" descr=""/>
          <p:cNvPicPr/>
          <p:nvPr/>
        </p:nvPicPr>
        <p:blipFill>
          <a:blip r:embed="rId1"/>
          <a:stretch/>
        </p:blipFill>
        <p:spPr>
          <a:xfrm>
            <a:off x="1460520" y="1574640"/>
            <a:ext cx="6222960" cy="4521240"/>
          </a:xfrm>
          <a:prstGeom prst="rect">
            <a:avLst/>
          </a:prstGeom>
          <a:ln w="0">
            <a:noFill/>
          </a:ln>
        </p:spPr>
      </p:pic>
      <p:sp>
        <p:nvSpPr>
          <p:cNvPr id="174" name="Rectángulo 8"/>
          <p:cNvSpPr/>
          <p:nvPr/>
        </p:nvSpPr>
        <p:spPr>
          <a:xfrm>
            <a:off x="228600" y="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¿Agentes Web que conocen, aprenden y razonan como lo hacen los hum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rma libre 8"/>
          <p:cNvSpPr/>
          <p:nvPr/>
        </p:nvSpPr>
        <p:spPr>
          <a:xfrm>
            <a:off x="5562720" y="3124080"/>
            <a:ext cx="1811160" cy="33336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Marcador de número de diapositiva 4"/>
          <p:cNvSpPr/>
          <p:nvPr/>
        </p:nvSpPr>
        <p:spPr>
          <a:xfrm>
            <a:off x="7513560" y="6450120"/>
            <a:ext cx="11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AEC0-8D0A-4721-84EA-C9766F6C0373}" type="slidenum"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416"/>
                </a:solidFill>
                <a:latin typeface="Arial"/>
              </a:rPr>
              <a:t>Impacto de la Tecnología Semán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03120" y="698400"/>
            <a:ext cx="85424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600" spc="-1" strike="noStrike">
                <a:solidFill>
                  <a:srgbClr val="ffb416"/>
                </a:solidFill>
                <a:latin typeface="Arial"/>
              </a:rPr>
              <a:t>¿TECNOLOGÍA O PEDAGOGÍ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MAC :Users:admin:Desktop:Metodologia ou tecnologia.AVI" descr="/Users/admin/Desktop/Metodologia ou tecnologia.AVI"/>
          <p:cNvPicPr/>
          <p:nvPr/>
        </p:nvPicPr>
        <p:blipFill>
          <a:blip r:embed="rId1"/>
          <a:stretch/>
        </p:blipFill>
        <p:spPr>
          <a:xfrm>
            <a:off x="1066680" y="9907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668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94FA-AAD2-4192-BE13-3E84B0464C22}" type="slidenum"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380880"/>
            <a:ext cx="80010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acfd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16"/>
                </a:solidFill>
                <a:latin typeface="Arial"/>
              </a:rPr>
              <a:t>Inteligencia Distribuida. Una nueva “onda” de innova-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grupar 7"/>
          <p:cNvGrpSpPr/>
          <p:nvPr/>
        </p:nvGrpSpPr>
        <p:grpSpPr>
          <a:xfrm>
            <a:off x="272880" y="1319040"/>
            <a:ext cx="8642520" cy="5538960"/>
            <a:chOff x="272880" y="1319040"/>
            <a:chExt cx="8642520" cy="5538960"/>
          </a:xfrm>
        </p:grpSpPr>
        <p:pic>
          <p:nvPicPr>
            <p:cNvPr id="184" name="Picture 3" descr=""/>
            <p:cNvPicPr/>
            <p:nvPr/>
          </p:nvPicPr>
          <p:blipFill>
            <a:blip r:embed="rId1"/>
            <a:stretch/>
          </p:blipFill>
          <p:spPr>
            <a:xfrm>
              <a:off x="272880" y="1319040"/>
              <a:ext cx="8642520" cy="55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ángulo 4"/>
            <p:cNvSpPr/>
            <p:nvPr/>
          </p:nvSpPr>
          <p:spPr>
            <a:xfrm>
              <a:off x="5410080" y="5105520"/>
              <a:ext cx="228600" cy="4572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Conector recto de flecha 6"/>
            <p:cNvCxnSpPr/>
            <p:nvPr/>
          </p:nvCxnSpPr>
          <p:spPr>
            <a:xfrm flipV="1">
              <a:off x="6705000" y="4724640"/>
              <a:ext cx="2160" cy="8388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n 16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8393400" cy="57909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336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600" spc="-1" strike="noStrike">
                <a:solidFill>
                  <a:srgbClr val="ffb416"/>
                </a:solidFill>
                <a:latin typeface="Arial"/>
              </a:rPr>
              <a:t>Visión Estratégica: Mercados </a:t>
            </a:r>
            <a:br>
              <a:rPr sz="3600"/>
            </a:br>
            <a:r>
              <a:rPr b="1" lang="es-ES_tradnl" sz="3600" spc="-1" strike="noStrike">
                <a:solidFill>
                  <a:srgbClr val="ffb416"/>
                </a:solidFill>
                <a:latin typeface="Arial"/>
              </a:rPr>
              <a:t>Digitales en 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adroTexto 11"/>
          <p:cNvSpPr/>
          <p:nvPr/>
        </p:nvSpPr>
        <p:spPr>
          <a:xfrm rot="16200000">
            <a:off x="-1054800" y="4095000"/>
            <a:ext cx="31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s Digitales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se de Crecimiento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netración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ector recto 13"/>
          <p:cNvSpPr/>
          <p:nvPr/>
        </p:nvSpPr>
        <p:spPr>
          <a:xfrm>
            <a:off x="0" y="3427560"/>
            <a:ext cx="9144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adroTexto 16"/>
          <p:cNvSpPr/>
          <p:nvPr/>
        </p:nvSpPr>
        <p:spPr>
          <a:xfrm>
            <a:off x="3402000" y="878040"/>
            <a:ext cx="48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s Digitales en Fase Expa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trategias para el desarrollo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cto 18"/>
          <p:cNvSpPr/>
          <p:nvPr/>
        </p:nvSpPr>
        <p:spPr>
          <a:xfrm>
            <a:off x="3325680" y="1371600"/>
            <a:ext cx="13226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ector recto 19"/>
          <p:cNvSpPr/>
          <p:nvPr/>
        </p:nvSpPr>
        <p:spPr>
          <a:xfrm>
            <a:off x="3326760" y="1371600"/>
            <a:ext cx="15084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adroTexto 35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b416"/>
                </a:solidFill>
                <a:latin typeface="Arial"/>
              </a:rPr>
              <a:t>ESTRATEGIAS DIFERENC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ector recto de flecha 37"/>
          <p:cNvCxnSpPr/>
          <p:nvPr/>
        </p:nvCxnSpPr>
        <p:spPr>
          <a:xfrm flipH="1" flipV="1">
            <a:off x="4799880" y="5714640"/>
            <a:ext cx="610200" cy="216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96" name="Conector recto de flecha 38"/>
          <p:cNvCxnSpPr/>
          <p:nvPr/>
        </p:nvCxnSpPr>
        <p:spPr>
          <a:xfrm flipH="1" flipV="1">
            <a:off x="4723560" y="4419360"/>
            <a:ext cx="762840" cy="129600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97" name="Conector recto de flecha 40"/>
          <p:cNvCxnSpPr/>
          <p:nvPr/>
        </p:nvCxnSpPr>
        <p:spPr>
          <a:xfrm flipH="1" flipV="1">
            <a:off x="5105160" y="2818800"/>
            <a:ext cx="457920" cy="297252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arrow" w="med"/>
          </a:ln>
        </p:spPr>
      </p:cxn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600" spc="-1" strike="noStrike">
                <a:solidFill>
                  <a:srgbClr val="ffb416"/>
                </a:solidFill>
                <a:latin typeface="Arial"/>
              </a:rPr>
              <a:t>Mercados Tradicionales Vs. Mercados Digitales en 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Multiplicación 4"/>
          <p:cNvSpPr/>
          <p:nvPr/>
        </p:nvSpPr>
        <p:spPr>
          <a:xfrm>
            <a:off x="8153280" y="1905120"/>
            <a:ext cx="914400" cy="7617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ás 6"/>
          <p:cNvSpPr/>
          <p:nvPr/>
        </p:nvSpPr>
        <p:spPr>
          <a:xfrm>
            <a:off x="8458200" y="3809880"/>
            <a:ext cx="609480" cy="38124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enos 7"/>
          <p:cNvSpPr/>
          <p:nvPr/>
        </p:nvSpPr>
        <p:spPr>
          <a:xfrm>
            <a:off x="8458200" y="4038480"/>
            <a:ext cx="6858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ás 8"/>
          <p:cNvSpPr/>
          <p:nvPr/>
        </p:nvSpPr>
        <p:spPr>
          <a:xfrm>
            <a:off x="8381880" y="2819520"/>
            <a:ext cx="76212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Menos 9"/>
          <p:cNvSpPr/>
          <p:nvPr/>
        </p:nvSpPr>
        <p:spPr>
          <a:xfrm>
            <a:off x="8381880" y="3200400"/>
            <a:ext cx="6098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ángulo 10"/>
          <p:cNvSpPr/>
          <p:nvPr/>
        </p:nvSpPr>
        <p:spPr>
          <a:xfrm>
            <a:off x="8731440" y="5105520"/>
            <a:ext cx="380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ángulo 12"/>
          <p:cNvSpPr/>
          <p:nvPr/>
        </p:nvSpPr>
        <p:spPr>
          <a:xfrm>
            <a:off x="8718840" y="5786280"/>
            <a:ext cx="380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3:05:49Z</dcterms:created>
  <dc:creator>ELIZABETH VIDAL ARIZABALETA</dc:creator>
  <dc:description/>
  <cp:keywords/>
  <dc:language>en-US</dc:language>
  <cp:lastModifiedBy>ELIZABETH VIDAL</cp:lastModifiedBy>
  <dcterms:modified xsi:type="dcterms:W3CDTF">2011-11-10T15:39:47Z</dcterms:modified>
  <cp:revision>195</cp:revision>
  <dc:subject/>
  <dc:title>VISIÓN E-LEARNING</dc:title>
</cp:coreProperties>
</file>